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E0D7-C87B-4C6E-B139-2D1558CD71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CE56-F173-4B16-9C1B-C0FA5007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0F8A-7F9D-4969-A4FE-1F6F53E9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FE48-EC11-4EAE-B9B0-D9FF4B9352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0B38-7275-41FD-98D4-0A65D1F2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81D3-0047-4EA5-9352-8C276059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DC75-E07D-40BE-980C-CE78B9D7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F427-F877-4179-8DD8-6D1FFF28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8D7E-BFB6-4C0A-A5B7-C754194E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31FB-F6B3-4ADA-837B-1C50BF59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01A3-20EF-4046-BF4F-CBE42954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EA26-0478-420E-A33E-E7EB3827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533E-4FBC-4549-B0FF-C36C1E7FAD5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662616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三节  皮肤、浅表淋巴结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蜘蛛痣与肝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蜘蛛痣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pider angiom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为皮肤小动脉末端分支性扩张所形成的血管痣，大小不等，形似蜘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肝病者手掌的大、小鱼际处皮肤发红，压之褪色，称为肝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liver pal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发生一般认为与肝对雌激素的灭活作用减弱，体内雌激素水平增高有关，见于急慢性肝炎、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肝掌"/>
          <p:cNvPicPr/>
          <p:nvPr/>
        </p:nvPicPr>
        <p:blipFill>
          <a:blip r:embed="rId1"/>
          <a:stretch/>
        </p:blipFill>
        <p:spPr>
          <a:xfrm>
            <a:off x="4067280" y="4653000"/>
            <a:ext cx="2665440" cy="17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蜘蛛痣"/>
          <p:cNvPicPr/>
          <p:nvPr/>
        </p:nvPicPr>
        <p:blipFill>
          <a:blip r:embed="rId2"/>
          <a:stretch/>
        </p:blipFill>
        <p:spPr>
          <a:xfrm>
            <a:off x="1476360" y="4653000"/>
            <a:ext cx="2241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水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根据水肿的轻重程度不等可分为轻、中、重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轻度：仅见于眼睑、踝部及胫骨前皮下组织，指压后有轻度凹陷，平复较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度：全身软组织均可见明显水肿，指压后出现较深凹陷，平复缓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重度：全身组织严重水肿，身体低垂部位皮肤紧张发亮，甚至有液体渗出，胸、腹腔可有积液，外阴部也可有明显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浅表淋巴结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浅表淋巴结分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浅表淋巴结的分布如下：耳前淋巴结、耳后淋巴结、枕淋巴结、颌下淋巴结、颏下淋巴结、颈前淋巴结、颈后淋巴结、锁骨上淋巴结、腋窝淋巴结、滑车上淋巴结、腹股沟淋巴结、腘窝淋巴结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全身淋巴系统示意图"/>
          <p:cNvPicPr/>
          <p:nvPr/>
        </p:nvPicPr>
        <p:blipFill>
          <a:blip r:embed="rId1"/>
          <a:stretch/>
        </p:blipFill>
        <p:spPr>
          <a:xfrm>
            <a:off x="5796000" y="1052640"/>
            <a:ext cx="2771640" cy="5329080"/>
          </a:xfrm>
          <a:prstGeom prst="rect">
            <a:avLst/>
          </a:prstGeom>
          <a:ln w="0">
            <a:noFill/>
          </a:ln>
        </p:spPr>
      </p:pic>
      <p:sp>
        <p:nvSpPr>
          <p:cNvPr id="63" name="Oval 5"/>
          <p:cNvSpPr/>
          <p:nvPr/>
        </p:nvSpPr>
        <p:spPr>
          <a:xfrm>
            <a:off x="8459640" y="2341440"/>
            <a:ext cx="573120" cy="254124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全身淋巴结分布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评估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者可站（坐）在被评估者对面，四指并拢紧贴检查部位，由浅入深进行滑动触摸，自上而下，按耳前、耳后、乳突区、枕骨下区、颌下、颏下、颈前、颈后、锁骨上窝、腋窝、滑车上、腹股沟、腘窝淋巴结顺序进行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34196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33098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淋巴结肿大的临床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局部淋巴结肿大 可见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非特异性淋巴结炎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淋巴结结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恶性肿瘤淋巴结转移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淋巴结肿大  淋巴结肿大的部位可以遍及全身，大小不等，无粘连，质地与病变性质有关。可见于淋巴瘤、白血病、传染性单核细胞增多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评估方法主要靠视诊，有时需配合触诊才能获得更清楚的印象。评估内容包括颜色、温度与湿度、弹性、完整性、蜘蛛痣与肝掌、水肿等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颜色 常见的皮肤颜色异常如下：苍白、发红、发绀、黄染、色素沉着、色素脱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湿度与湿度 皮肤湿度与汗腺分泌功能、气温、湿度的变化有关。通常以手背触摸被评估者皮肤评估皮肤温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弹性 即皮肤紧张度，与年龄、营养状态、皮下脂肪及组织间隙所含液体量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完整性（包括压疮、皮疹、皮下出血等） 常见皮疹如下：斑疹、玫瑰疹、丘疹、斑丘疹、荨麻疹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蜘蛛痣与肝掌  发生一般认为与肝对雌激素的灭活作用减弱，体内雌激素水平增高有关，见于急慢性肝炎、肝硬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水肿 皮下组织水肿通过视诊和触诊较易确定。临床上根据水肿的轻重程度不等可分为轻、中、重三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浅表淋巴结评估主要靠触诊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皮肤、浅表淋巴结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皮肤、浅表淋巴结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皮肤、浅表淋巴结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皮肤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颜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苍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黄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沉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脱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湿度与温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湿度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oistu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汗腺分泌功能、气温、湿度的变化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出汗增多见于风湿病、结核病、甲状腺功能亢进、佝偻病等。四肢皮肤发凉而大汗淋漓称为冷汗，见于休克、虚脱。夜间入睡后出汗称为盗汗，是结核病的常见征象。皮肤异常干燥无汗，见于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症、硬皮病、尿毒症和脱水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通常以手背触摸被评估者皮肤评估皮肤温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皮肤发热见于发热性疾病、甲状腺功能亢进。全身皮肤发冷见于休克、甲状腺功能减退症等。局部皮肤发热见于疖、痈、丹毒等炎症。肢端发冷可见于雷诺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弹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即皮肤紧张度，与年龄、营养状态、皮下脂肪及组织间隙所含液体量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IMG_0076"/>
          <p:cNvPicPr/>
          <p:nvPr/>
        </p:nvPicPr>
        <p:blipFill>
          <a:blip r:embed="rId1"/>
          <a:srcRect l="0" t="9845" r="5703" b="5102"/>
          <a:stretch/>
        </p:blipFill>
        <p:spPr>
          <a:xfrm>
            <a:off x="1547640" y="3284640"/>
            <a:ext cx="439272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完整性（包括压疮、皮疹、皮下出血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压疮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ressure so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又称压力性溃疡，为局部组织长期受压，发生持续缺血、缺氧、营养不良所致的皮肤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kin le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多为全身性疾病征象之一，常见于传染病、药物过敏和皮肤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玫瑰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丘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丘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荨麻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0:50Z</dcterms:modified>
  <cp:revision>138</cp:revision>
  <dc:subject/>
  <dc:title>内科护理学</dc:title>
</cp:coreProperties>
</file>